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7.jpeg" ContentType="image/jpeg"/>
  <Override PartName="/ppt/media/image11.png" ContentType="image/png"/>
  <Override PartName="/ppt/media/image5.wmf" ContentType="image/x-wmf"/>
  <Override PartName="/ppt/media/image6.jpeg" ContentType="image/jpeg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229-720C-4879-950B-9F1E2D21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96DB-F53D-4CD7-9C82-F50B829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A42-B739-450E-8532-34A10168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90C-CAB9-4278-93D6-585A7F33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3124-DA34-4019-9604-4495CD78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0FE-EB11-4388-85CB-77D82DC9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5FF6-9D5A-454E-B6B2-BB63E833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9087-6620-4BC3-8C4F-EBEE56E4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075-5F77-4A4C-9E6D-77C602E6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C013-E318-489F-8368-8E56058C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A8AA-2708-4525-8D90-25CAF20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4F3-7907-419F-96DF-31FB355E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49AA-67FF-401F-A882-BDCFF1B9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489C-B6EC-48A9-B195-1196AF8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A914-7079-48FF-BEFC-65B2E0A5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AF1E-8075-43B1-B6FF-3C860813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F7D8-6945-4364-88E4-158883F5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722-A527-4A4E-AE28-5EA3A971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EA3-9CDB-48BC-A407-A1753B31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6BF-EFBC-49F2-BF2C-6F43F53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FC3-25A9-4CA3-A867-E941EB32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85C-D050-446C-B0EC-9B1264C8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F23C-5762-4B29-8D6F-80CA068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AC5-63FF-4941-B83E-94C2FAC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5A66-F7CB-4302-AED0-6741C30C97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322-90E9-46DE-B319-D8354383509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52120" y="4114800"/>
            <a:ext cx="678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chanization, Urban Growth, Proletarianization, Consum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3" name="Picture 101" descr="j0188311[1]"/>
          <p:cNvPicPr/>
          <p:nvPr/>
        </p:nvPicPr>
        <p:blipFill>
          <a:blip r:embed="rId1"/>
          <a:stretch/>
        </p:blipFill>
        <p:spPr>
          <a:xfrm>
            <a:off x="2971800" y="0"/>
            <a:ext cx="335268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litarianiz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19720" cy="25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ring the century, factory workers underwent a process of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letarianization (i.e., they lost control of the means of production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Picture 4" descr="proletariat"/>
          <p:cNvPicPr/>
          <p:nvPr/>
        </p:nvPicPr>
        <p:blipFill>
          <a:blip r:embed="rId1"/>
          <a:srcRect l="34887" t="0" r="0" b="0"/>
          <a:stretch/>
        </p:blipFill>
        <p:spPr>
          <a:xfrm>
            <a:off x="5587920" y="503280"/>
            <a:ext cx="3556080" cy="34923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977760" y="4351320"/>
            <a:ext cx="778536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actory owners provided the financial capital to construct the factory, to purchase the machinery, and to secure the raw material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The factory workers merely exchanged their labor for wag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Family Structures Chang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5105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the decline of the domestic system and the rise of the factory system, family life change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 first, the entire family, including the children, worked in the factory, just as they had at hom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ter, family life became fragmented (the father worked in the factory, the mother handled domestic chores, the children went to school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4" descr="factory2"/>
          <p:cNvPicPr/>
          <p:nvPr/>
        </p:nvPicPr>
        <p:blipFill>
          <a:blip r:embed="rId1"/>
          <a:srcRect l="0" t="0" r="52627" b="6454"/>
          <a:stretch/>
        </p:blipFill>
        <p:spPr>
          <a:xfrm>
            <a:off x="6172200" y="1752480"/>
            <a:ext cx="275256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Family as a Unit of Consump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90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In short, the European family changed from being a unit of production and consumption to being a unit of consumption alon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4" name="Picture 4" descr="family2"/>
          <p:cNvPicPr/>
          <p:nvPr/>
        </p:nvPicPr>
        <p:blipFill>
          <a:blip r:embed="rId1">
            <a:lum bright="18000"/>
          </a:blip>
          <a:srcRect l="6803" t="10448" r="20605" b="8956"/>
          <a:stretch/>
        </p:blipFill>
        <p:spPr>
          <a:xfrm>
            <a:off x="6400800" y="1676520"/>
            <a:ext cx="243828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chaniz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uring the first half of the 19</a:t>
            </a:r>
            <a:r>
              <a:rPr b="0" lang="en-US" sz="28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entury, the European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anufacturing process shifted from small-scale production by hand at home to large-scale production by  machin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a factory sett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Picture 4" descr="handloom"/>
          <p:cNvPicPr/>
          <p:nvPr/>
        </p:nvPicPr>
        <p:blipFill>
          <a:blip r:embed="rId1"/>
          <a:stretch/>
        </p:blipFill>
        <p:spPr>
          <a:xfrm>
            <a:off x="5538960" y="1752480"/>
            <a:ext cx="341136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t the Expense of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5410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hift meant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high quality products at competitive prices, but often at the expense of  worker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 For example, the raw wool and cotton that fed the British textile mills came from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nds converted from farming to sheep raising, leaving farm workers without job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southern plantations of the United States, which were dependent upon slave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Picture 41" descr="NG-01-Slave-C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00800" y="3048120"/>
            <a:ext cx="2511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Urban Grow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ose who could no longer make a living on the land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grated from the countryside to the cities to seek work in the 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990720" y="4267080"/>
            <a:ext cx="4267080" cy="2203560"/>
            <a:chOff x="990720" y="4267080"/>
            <a:chExt cx="4267080" cy="2203560"/>
          </a:xfrm>
        </p:grpSpPr>
        <p:graphicFrame>
          <p:nvGraphicFramePr>
            <p:cNvPr id="113" name="Object 6"/>
            <p:cNvGraphicFramePr/>
            <p:nvPr/>
          </p:nvGraphicFramePr>
          <p:xfrm>
            <a:off x="1067040" y="4495680"/>
            <a:ext cx="3797280" cy="197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7040" y="4495680"/>
                      <a:ext cx="3797280" cy="197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7"/>
            <p:cNvSpPr/>
            <p:nvPr/>
          </p:nvSpPr>
          <p:spPr>
            <a:xfrm>
              <a:off x="990720" y="42670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1850: Population Living in Cities</a:t>
              </a:r>
              <a:endParaRPr b="0" lang="en-US" sz="20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pic>
        <p:nvPicPr>
          <p:cNvPr id="116" name="Picture 11" descr="aberdeen"/>
          <p:cNvPicPr/>
          <p:nvPr/>
        </p:nvPicPr>
        <p:blipFill>
          <a:blip r:embed="rId3"/>
          <a:stretch/>
        </p:blipFill>
        <p:spPr>
          <a:xfrm>
            <a:off x="5486400" y="1676520"/>
            <a:ext cx="32925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pulation Growt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the same time, the population of Europe continued to grow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Picture 7" descr="population2"/>
          <p:cNvPicPr/>
          <p:nvPr/>
        </p:nvPicPr>
        <p:blipFill>
          <a:blip r:embed="rId1"/>
          <a:stretch/>
        </p:blipFill>
        <p:spPr>
          <a:xfrm>
            <a:off x="5562720" y="1676520"/>
            <a:ext cx="3190680" cy="41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10"/>
          <p:cNvGraphicFramePr/>
          <p:nvPr/>
        </p:nvGraphicFramePr>
        <p:xfrm>
          <a:off x="609480" y="3505320"/>
          <a:ext cx="4876920" cy="30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505320"/>
                    <a:ext cx="48769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Plight of the Cit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953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hee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number of human beings put pressure on city resourc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using, water, sewers, food supplies, and lighting were completely inadequa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8" descr="crime2"/>
          <p:cNvPicPr/>
          <p:nvPr/>
        </p:nvPicPr>
        <p:blipFill>
          <a:blip r:embed="rId1"/>
          <a:srcRect l="0" t="0" r="0" b="7610"/>
          <a:stretch/>
        </p:blipFill>
        <p:spPr>
          <a:xfrm>
            <a:off x="6019920" y="1752480"/>
            <a:ext cx="2876400" cy="21081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3"/>
          <p:cNvSpPr/>
          <p:nvPr/>
        </p:nvSpPr>
        <p:spPr>
          <a:xfrm>
            <a:off x="1066680" y="4129200"/>
            <a:ext cx="7315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lums grew and disease, especially cholera, ravaged the population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ime increased and became a way of life for those who could make a living in no other way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ditions in the  Countrys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527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only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successful farmers were those with large landholdings who could afford agricultural innovatio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st peasant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idn’t have enough land to support themselv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ere devastated by poor harvests (e.g., the Irish Potato Famine of 1845-47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ere forced to move to the cities to find work in the factorie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Picture 11" descr="countryside5"/>
          <p:cNvPicPr/>
          <p:nvPr/>
        </p:nvPicPr>
        <p:blipFill>
          <a:blip r:embed="rId1"/>
          <a:srcRect l="31998" t="0" r="0" b="0"/>
          <a:stretch/>
        </p:blipFill>
        <p:spPr>
          <a:xfrm>
            <a:off x="5730840" y="1730520"/>
            <a:ext cx="311940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Role of the Railroa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railroads, built during the 1830s and 1840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abled people to leave the place of their birth an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migrate easily to the citie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wed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cheaper and more rapid transport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f raw materials and finished produc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reated an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increased demand for iron and steel and a skilled labor forc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Picture 4" descr="rail"/>
          <p:cNvPicPr/>
          <p:nvPr/>
        </p:nvPicPr>
        <p:blipFill>
          <a:blip r:embed="rId1"/>
          <a:stretch/>
        </p:blipFill>
        <p:spPr>
          <a:xfrm>
            <a:off x="5867280" y="1752480"/>
            <a:ext cx="31244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Labor For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49532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 single description could include all of these 19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 worker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ctory wor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rban artisa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omestic system crafts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usehold serva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n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ntryside peddl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rm wor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ilroad worke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ations in duties, income, and working conditions made it difficult for them to unit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Picture 4" descr="workers2"/>
          <p:cNvPicPr/>
          <p:nvPr/>
        </p:nvPicPr>
        <p:blipFill>
          <a:blip r:embed="rId1"/>
          <a:stretch/>
        </p:blipFill>
        <p:spPr>
          <a:xfrm>
            <a:off x="5873760" y="1295280"/>
            <a:ext cx="304164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9:03:44Z</dcterms:created>
  <dc:creator>Edrene S. McKay</dc:creator>
  <dc:description/>
  <dc:language>en-US</dc:language>
  <cp:lastModifiedBy>hberndt</cp:lastModifiedBy>
  <dcterms:modified xsi:type="dcterms:W3CDTF">2010-01-07T14:31:56Z</dcterms:modified>
  <cp:revision>22</cp:revision>
  <dc:subject/>
  <dc:title>The Industrial Revolution</dc:title>
</cp:coreProperties>
</file>